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77AD-25AD-4C69-869A-08A47691C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3476-A364-48F0-A554-F9EDA21CDC9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63EE-EC35-4B60-884C-F0372B9BF1A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2D3-0B10-40E3-A471-6FA2D71D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3F6-27F4-4E45-B0E2-44B72BD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D93-E25A-40B7-B56E-9DF5C417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AED-C94C-4578-ADD9-A39F67CF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B4D1-0C1F-4A80-B572-E3438B52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CE59-E92F-400F-934B-2F70640C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E13-5435-4949-8C92-AD8CC6A8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EDB-1D92-4C3A-99C9-CD62AD8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AE6-A35B-465B-B5C0-4550B3B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8C26-F675-4F9D-8979-E6A273D9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09E-E6B8-412C-98A4-081E7CF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77B-FD86-47B5-9E72-9DEB1BE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4A8-F73E-4B6A-9531-1F26532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FDC-55B4-4861-8DE7-FAB36D6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682-34B0-4A28-80E5-7086C67E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3722-FE85-41F0-9D7E-361A6059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802-90EA-4DCB-B1DD-5749BAFC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041-EAA7-4CDD-851D-BED0FBD9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C89-E7C2-4EDA-8FBB-65F30D4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E41-F163-4DF6-819D-591735A7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772-551C-4375-BD95-03FBA5C6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63C-E0A6-4FE9-A0DA-1FB1C2F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DD5-5E70-4B5C-9D5B-0298297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528-9AB0-457F-B70E-FF25BF2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B67-A4B4-4C11-8E35-AF7EAFF9C3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C021-5586-4508-8F29-7E5DAA40413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6-27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09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всего – 7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международные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</a:t>
            </a: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представленные на выставках, </a:t>
            </a: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18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Конференци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– 23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на базе вуза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6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09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50920" y="836640"/>
          <a:ext cx="5040360" cy="569592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зданные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4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Вступительное слово, ректор, Л.Н. Карлин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Научная деятельность университета в 200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9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году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ректор по НР, В.Н. Воробье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облемы системы управления качеством образования в ВУЗе», доц, Гагулина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Комплексное управление прибрежными зонамии и национальная морская политика»,  </a:t>
            </a:r>
            <a:r>
              <a:rPr b="1" lang="ru-RU" sz="1400" spc="-1" strike="noStrike">
                <a:solidFill>
                  <a:srgbClr val="eaeaea"/>
                </a:solidFill>
                <a:latin typeface="Bookman Old Style"/>
              </a:rPr>
              <a:t>проф.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Карлин Л.Н., Оганова С.А., проф. Плинк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Об адекватности сценариев изменения клим ата: воспроизведение климатического режима 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XX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-го столетия современными климатическими моделями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Менжулин Г.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Закономерности сезонной и многолетней изменчивости циркуляции атмосферы и океана в Северной Атлантике», проф. Воробьев В.Н., Дроздов В.В., проф. Смирнов Н.П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Вопросы информационного обеспечения геоэкологических исследований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 Шелутко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Исследование обратных связей между изменениями газового состава и климата в тропосфере и стратосфере»,  проф.. Смышляев С.П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именение эмпирико-статистических методов для моделирования и анализа климатических изменений», проф. Лобанов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Бухгалтерский и налоговый учет как информационная база управления природопользованием в экономике предприятий», проф. Фомина Л.Ф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09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4080" cy="74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8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/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9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684360"/>
                <a:gridCol w="4039920"/>
                <a:gridCol w="762120"/>
                <a:gridCol w="990720"/>
                <a:gridCol w="1218960"/>
                <a:gridCol w="1447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1 710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2 811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    Федеральное Агентство по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разовани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 578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333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 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едеральное Агентство по науке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 инновация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23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88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92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06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428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87,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631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.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бственные средства ВУЗ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562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 812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1773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00000" y="1844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53"/>
          <p:cNvSpPr/>
          <p:nvPr/>
        </p:nvSpPr>
        <p:spPr>
          <a:xfrm flipH="1">
            <a:off x="8997840" y="458136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454"/>
          <p:cNvSpPr/>
          <p:nvPr/>
        </p:nvSpPr>
        <p:spPr>
          <a:xfrm flipH="1">
            <a:off x="899784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456"/>
          <p:cNvSpPr/>
          <p:nvPr/>
        </p:nvSpPr>
        <p:spPr>
          <a:xfrm flipH="1">
            <a:off x="630072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457"/>
          <p:cNvSpPr/>
          <p:nvPr/>
        </p:nvSpPr>
        <p:spPr>
          <a:xfrm>
            <a:off x="630072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458"/>
          <p:cNvSpPr/>
          <p:nvPr/>
        </p:nvSpPr>
        <p:spPr>
          <a:xfrm>
            <a:off x="900108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461"/>
          <p:cNvSpPr/>
          <p:nvPr/>
        </p:nvSpPr>
        <p:spPr>
          <a:xfrm flipH="1">
            <a:off x="8997840" y="609300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475"/>
          <p:cNvSpPr/>
          <p:nvPr/>
        </p:nvSpPr>
        <p:spPr>
          <a:xfrm flipH="1">
            <a:off x="630000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476"/>
          <p:cNvSpPr/>
          <p:nvPr/>
        </p:nvSpPr>
        <p:spPr>
          <a:xfrm flipH="1">
            <a:off x="899892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482"/>
          <p:cNvSpPr/>
          <p:nvPr/>
        </p:nvSpPr>
        <p:spPr>
          <a:xfrm>
            <a:off x="630072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483"/>
          <p:cNvSpPr/>
          <p:nvPr/>
        </p:nvSpPr>
        <p:spPr>
          <a:xfrm flipH="1">
            <a:off x="630000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487"/>
          <p:cNvSpPr/>
          <p:nvPr/>
        </p:nvSpPr>
        <p:spPr>
          <a:xfrm flipH="1">
            <a:off x="899892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488"/>
          <p:cNvSpPr/>
          <p:nvPr/>
        </p:nvSpPr>
        <p:spPr>
          <a:xfrm>
            <a:off x="900108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492"/>
          <p:cNvSpPr/>
          <p:nvPr/>
        </p:nvSpPr>
        <p:spPr>
          <a:xfrm>
            <a:off x="630072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493"/>
          <p:cNvSpPr/>
          <p:nvPr/>
        </p:nvSpPr>
        <p:spPr>
          <a:xfrm>
            <a:off x="900108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496"/>
          <p:cNvSpPr/>
          <p:nvPr/>
        </p:nvSpPr>
        <p:spPr>
          <a:xfrm flipH="1">
            <a:off x="630000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497"/>
          <p:cNvSpPr/>
          <p:nvPr/>
        </p:nvSpPr>
        <p:spPr>
          <a:xfrm>
            <a:off x="6300720" y="573408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498"/>
          <p:cNvSpPr/>
          <p:nvPr/>
        </p:nvSpPr>
        <p:spPr>
          <a:xfrm flipH="1">
            <a:off x="8997840" y="573408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499"/>
          <p:cNvSpPr/>
          <p:nvPr/>
        </p:nvSpPr>
        <p:spPr>
          <a:xfrm flipH="1">
            <a:off x="8997840" y="537372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8 ― 2009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920" y="907920"/>
          <a:ext cx="9001080" cy="587556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90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9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681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573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98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190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.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AutoShape 986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AutoShape 987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88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989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990"/>
          <p:cNvSpPr/>
          <p:nvPr/>
        </p:nvSpPr>
        <p:spPr>
          <a:xfrm>
            <a:off x="8748720" y="4508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991"/>
          <p:cNvSpPr/>
          <p:nvPr/>
        </p:nvSpPr>
        <p:spPr>
          <a:xfrm>
            <a:off x="8748720" y="508464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994"/>
          <p:cNvSpPr/>
          <p:nvPr/>
        </p:nvSpPr>
        <p:spPr>
          <a:xfrm>
            <a:off x="8748720" y="32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995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998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04"/>
          <p:cNvSpPr/>
          <p:nvPr/>
        </p:nvSpPr>
        <p:spPr>
          <a:xfrm>
            <a:off x="8748720" y="6381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09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4920" y="1125360"/>
          <a:ext cx="9074160" cy="54738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382680"/>
                <a:gridCol w="8650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421.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3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14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59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59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9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264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9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8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6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92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2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734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77,9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17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286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474,1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21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918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92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33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8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37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4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94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269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9280" y="1700280"/>
          <a:ext cx="8785440" cy="47181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3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19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61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 0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198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48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7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64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994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712800"/>
          <a:ext cx="8785440" cy="61545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23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0-01-29T16:24:43Z</dcterms:modified>
  <cp:revision>402</cp:revision>
  <dc:subject/>
  <dc:title>Итоговая сессия Ученого совета РГГМУ</dc:title>
</cp:coreProperties>
</file>